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0C3-0384-486B-8F4F-B8E9C136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186-1F75-43DD-BF44-17395197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BE0-C078-40DD-A569-2BD4DB14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A7E-BFC8-4AE0-B4EB-2ED48301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D99-449C-43C7-AE15-313CDB1C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391-F821-487E-9C5C-C5824833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474-5E7B-42EC-9576-56349036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D84-8ED7-418B-A232-664485F2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9EB-61EA-40AB-9BF7-7D390666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F3A-8C37-4F04-AE2F-D0BC6625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B33-3FE8-4948-8312-49A769CB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265-4442-46B8-B034-7CEFE3EB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4-</a:t>
            </a:r>
            <a:fld id="{1868FD33-1855-482D-B5E2-1A6B05AF396A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ike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abiscoworld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514600"/>
            <a:ext cx="403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Motivation and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467160" cy="460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assifying Consumer Need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486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urray’s 20 psychogenic need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atic Apperception Technique (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pecific needs and buying behaviou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uniqu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51784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366-DA79-46CC-9DD3-EE7C5E9CC4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79c8"/>
                </a:solidFill>
                <a:latin typeface="Arial"/>
              </a:rPr>
              <a:t>Levels of Needs in the Maslow Hierarchy</a:t>
            </a:r>
            <a:endParaRPr b="0" lang="en-US" sz="38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58280" cy="43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D50-C2A8-438B-AA08-8682485CA4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Devise separate promotional strategies for an article of clothing, each of which stresses one of the levels of Maslow’s hierarchy of needs.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FCF-F257-4AF0-B070-40854477B0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er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055"/>
                </a:solidFill>
                <a:latin typeface="Arial"/>
              </a:rPr>
              <a:t>We can get pretty attached to products…</a:t>
            </a:r>
            <a:endParaRPr b="0" lang="en-US" sz="20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 One” tattoo on consumer’s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c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gazine for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055"/>
                </a:solidFill>
                <a:latin typeface="Arial"/>
              </a:rPr>
              <a:t>Involvement: perceived relevance of an object based on one’s needs, values, and interests</a:t>
            </a:r>
            <a:endParaRPr b="0" lang="en-US" sz="20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vation to proces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41972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7F0-C062-4D62-A939-CA8760A7EB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nertia and Flow Stat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ertia: consumption at the low end of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ake decisions out of habit (lack of motiv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low state: true involvement with a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ion/focused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CD2-E5FF-444F-977F-7392D248EB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nertia and Flow State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low state (cont’d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enjoyment of activity for its own s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orted sense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between challenge at hand and one’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F17-C1C9-45D2-8C4A-4E4F511544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ult Produc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mmand fierce consumer loyalty, devotion, and worship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involvement in a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pple computers, Harley-Davi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6C1-CD40-4208-8642-76DACF47B7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ype of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153280" cy="28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900-E4E9-4189-A247-0FBEF7ED35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roduct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’s level of interest in a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ny sales promotions attempt to increase product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ss customization enhances product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981080" y="4572000"/>
            <a:ext cx="4723560" cy="825480"/>
            <a:chOff x="1981080" y="4572000"/>
            <a:chExt cx="4723560" cy="825480"/>
          </a:xfrm>
        </p:grpSpPr>
        <p:pic>
          <p:nvPicPr>
            <p:cNvPr id="8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981080" y="457200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86" name=""/>
            <p:cNvSpPr/>
            <p:nvPr/>
          </p:nvSpPr>
          <p:spPr>
            <a:xfrm>
              <a:off x="2991240" y="4878360"/>
              <a:ext cx="371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USTOMIZE YOUR OWN NIKE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940-BC91-4F2A-A2A7-FE23211738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Message-Respons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’s interest in processing marketing communications 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gilant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V = low involvement medium; print = high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ers experiment with novel ways to increase consumers’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62320" y="5486400"/>
            <a:ext cx="3763800" cy="825480"/>
            <a:chOff x="2362320" y="5486400"/>
            <a:chExt cx="3763800" cy="825480"/>
          </a:xfrm>
        </p:grpSpPr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362320" y="548640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3430800" y="579276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ABISCOWORLD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3D9-483D-4E5C-8BDB-028F407C0A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 and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forces that drive us to buy/use product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ually 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related to wide-sprea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motional and create deep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ometimes not immediately recognizable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761-3B7E-4289-A6A7-513E51C9FF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urchase Situation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fferences that may occur when buying the same object for different contex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isk is a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as symbol of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58B-E149-449B-86AE-65BA01A642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Table 4-2: Scale to Measur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523880"/>
          <a:ext cx="8229600" cy="4713480"/>
        </p:xfrm>
        <a:graphic>
          <a:graphicData uri="http://schemas.openxmlformats.org/drawingml/2006/table">
            <a:tbl>
              <a:tblPr/>
              <a:tblGrid>
                <a:gridCol w="685800"/>
                <a:gridCol w="2057400"/>
                <a:gridCol w="3581280"/>
                <a:gridCol w="1905120"/>
              </a:tblGrid>
              <a:tr h="76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To Me (Object to Be Judged)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o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ter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relev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rrelev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xc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exc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eans no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eans a 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app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app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scin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und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worth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alu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vol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invol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not n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n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97C-C216-4B66-9D89-3EA1772117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mensions of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volvement profile componen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rest in product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of bad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ure value of product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value of product category (self-concept relev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165-4E44-4CB3-8311-970B37DE9E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Dimensions of Involvement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 class involvement may vary across cul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volvement profile components as basis for market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A22-EFF8-40C4-A2A9-10D2135D81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Strategies to Increas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Appeal to hedonistic need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Use novel stimuli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Use prominent stimuli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Include celebrity endorsers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Build consumer bonds via ongoing consumer relationship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419360" cy="40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815-65A0-4B2D-9196-0EC6C82B66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er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Value: a belief that some condition is preferable to its opposit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reedom is preferable to slavery; looking younger is preferable to looking 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s/services = help in attaining value-related go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e seek others that share our values/belief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we tend to be exposed to information that supports ou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FE5-5044-418F-BAD0-630DFE9A37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re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very culture has its own set of valu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dividualism vs. colle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Value system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nculturation vs. acculturatio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zation agents: parents, friends,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as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Core values evolve over time. What do you think are the 3–5 core values that best describe Canadians today?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003-5C44-4E08-AA93-CB35F6FEE2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okeach Value Surve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 values (e.g., comfortable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al values (e.g., ambit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researchers have not widely used this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microcultures within larger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23F-7C79-4BF2-8B0C-211FD4BA01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ist of Values (LOV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e consumer segments/endors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by consumer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those who endorse sense of belonging rea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der’s Di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V Gu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rink and entertain more, and prefer group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F53-7F49-4159-9273-58E41CAD1E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eans-End Chain Mod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pecific product attributes are linked at levels of increasing abstraction to termin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means to attain valued e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= means to an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der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value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C51-75D9-4F45-B7ED-059D5AAE25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Motivation Proces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tivation: the process that leads us to behave they way we do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reates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creates drive to reduce/eliminate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end state = consumer’s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/services provide desired end state and reduce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025-7BF7-4E27-BFC8-023A78ADCF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c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yndicated Survey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changes in values via large-scale surveys (e.g., Yankelov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terialism vs. voluntary simplifie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od life”...“He Who Dies with the Most Toys,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ith highly material values tend to be less 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ing M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EA2-7155-469B-AEEA-580F37763A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ECCA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athered information used to develop an advertising strategy by identifying the following elements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97C-0D3A-459D-A94F-04E2001319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in the Aftermath of 9/11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 for balance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11 and consum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edirecting focus from luxury goods to community/famil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 privacy vs. secur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68D-8FCA-4BD2-9603-A308E60CA2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How do you think consumers have changed as a result of 9/11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these long-term changes or will we start to revert back to our pre-2001 minds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6E6-9BD4-4360-859E-8D7C50B668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Motivation Proces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 = discrepancy between present state and ideal stat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pancy creates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: the larger the discrepancy, the more urgency f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476244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BE5-DAC5-47BD-8A8E-B60AADFAA9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Strength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gree of willingness to expend energy to reach a go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vs. learn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y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0E6-752F-4444-A952-0CCB362480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Direc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st goals can be reached by a number of route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ers: products/services provide best chance to attai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s vs. wan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: particular form of consumption used to satisfy a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605-72AB-464D-9B93-FA24EFEFCF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ypes of Need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ioge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sychoge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Utilitaria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edo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D84-5BD1-44AE-8419-B8852C581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Conflic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oal vale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ly valued goal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ly valued goal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odorant and mouth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ositive and negative motives often conflict with one anothe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882-2E45-4F2E-BE12-E182BAF3A5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Conflict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876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pproach-Approach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esirabl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pproach-Avoidanc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nd negative aspects of desired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lt of desire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voidance-Avoidanc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ng a choice with two undesirabl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962160" cy="32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02B-D363-4DC5-A7A3-DE2993D7C0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39:29Z</dcterms:modified>
  <cp:revision>1001</cp:revision>
  <dc:subject/>
  <dc:title>Consumers Rule</dc:title>
</cp:coreProperties>
</file>